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202B-E0F2-4DC4-B745-FFD6FF2A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E270-93F5-4406-B601-980F2B7BE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7E4D-A486-4601-A378-D5F00FE8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334C-CAB7-464A-8DB2-9B75EEE98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B962-DEF5-4B9A-9644-5FD927036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608-1905-4936-86A4-97DDF946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8A9-B548-4D2B-B72A-E8D8C71E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21C-9F6E-43B5-93B2-FC8EE191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8AA-1DDF-4B45-A67C-09FBBD1A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FE67-3692-47A2-BBB7-70EEF318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225C-219B-4BEA-8356-3BC474AC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C39A-3BDB-4E7C-B2C2-DBFBAB39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2564-36C6-4F41-B434-70C8B692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7D73-364B-4A82-9C86-39FC961D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7905-E52A-4317-B37C-933DCAE1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413F-932D-4709-A206-88EBD09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3F6-92ED-44DA-BE4D-B887E03E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CE21-0909-40A1-8D00-F675760C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7E25-5D58-4EC8-828D-9816296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462F-560B-40F2-833F-7FFEA7BC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DFFD-9828-4BE1-9C7D-291E9580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F649-50A0-4B0B-AE73-A8A7F318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90A3-5551-42C2-BCFA-07E41F82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9104-03D7-4803-A4EE-72E2A40F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7CA8-E55A-4C8D-97B3-4067AADC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FA7A-B6B7-4486-AA5D-B5B61D83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295A-1713-457E-B2B7-FF492945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E32-C66E-44F2-A340-4271F0F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6CAA-AEB2-4DF0-9A67-D0790BA1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E5C5-9B4E-4EB4-9E76-CB2D7C24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D959-5F12-4E26-AE60-1C9BD2E0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D034-AA41-4657-A79D-B9A3EE6F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F815-840A-46C5-B004-ED55077C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18E5-6A6E-4A7D-B8C5-38A0AB0B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D4DB-A76F-4DAC-9416-CF7EE6F4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B5B-59A0-47F4-91EE-A4E8471B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DDA-71BD-42B6-A166-299E7B56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9C1-FE18-4A02-8EB2-316C8ED0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1F6-4632-4200-BB0B-8A21381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B5D-3AA1-4E91-8B63-58F4F6AC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F1D-0673-4DC3-882E-791E3B00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65E-FE6E-478B-8AE8-D818CFAF2209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CA22-6EB4-4A7D-9B20-0E45EA62F006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017-C9E9-4934-B4F4-AABF85FAA915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.xml"/><Relationship Id="rId6" Type="http://schemas.openxmlformats.org/officeDocument/2006/relationships/slide" Target="slide14.xml"/><Relationship Id="rId7" Type="http://schemas.openxmlformats.org/officeDocument/2006/relationships/slide" Target="slide24.xml"/><Relationship Id="rId8" Type="http://schemas.openxmlformats.org/officeDocument/2006/relationships/slide" Target="slide34.xml"/><Relationship Id="rId9" Type="http://schemas.openxmlformats.org/officeDocument/2006/relationships/slide" Target="slide6.xml"/><Relationship Id="rId10" Type="http://schemas.openxmlformats.org/officeDocument/2006/relationships/slide" Target="slide16.xml"/><Relationship Id="rId11" Type="http://schemas.openxmlformats.org/officeDocument/2006/relationships/slide" Target="slide26.xml"/><Relationship Id="rId12" Type="http://schemas.openxmlformats.org/officeDocument/2006/relationships/slide" Target="slide36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8.xml"/><Relationship Id="rId16" Type="http://schemas.openxmlformats.org/officeDocument/2006/relationships/slide" Target="slide38.xml"/><Relationship Id="rId17" Type="http://schemas.openxmlformats.org/officeDocument/2006/relationships/slide" Target="slide10.xml"/><Relationship Id="rId18" Type="http://schemas.openxmlformats.org/officeDocument/2006/relationships/slide" Target="slide20.xml"/><Relationship Id="rId19" Type="http://schemas.openxmlformats.org/officeDocument/2006/relationships/slide" Target="slide30.xml"/><Relationship Id="rId20" Type="http://schemas.openxmlformats.org/officeDocument/2006/relationships/slide" Target="slide40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en.wikipedia.org/wiki/File:JacobZuma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1143000"/>
          <a:ext cx="8153280" cy="547524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ograph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06a06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b526"/>
                          </a:solidFill>
                          <a:latin typeface="Times New Roman"/>
                        </a:rPr>
                        <a:t>Farming, education &amp; 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Afri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Art’s  &amp; Spor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0d0d"/>
                    </a:solidFill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36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69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37" name="Rectangle 1"/>
          <p:cNvSpPr/>
          <p:nvPr/>
        </p:nvSpPr>
        <p:spPr>
          <a:xfrm>
            <a:off x="228600" y="125280"/>
            <a:ext cx="3492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tangle 4" descr=""/>
          <p:cNvPicPr/>
          <p:nvPr/>
        </p:nvPicPr>
        <p:blipFill>
          <a:blip r:embed="rId21"/>
          <a:stretch/>
        </p:blipFill>
        <p:spPr>
          <a:xfrm>
            <a:off x="585720" y="-49320"/>
            <a:ext cx="813132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426960" y="152280"/>
            <a:ext cx="8126640" cy="1451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2286000" y="2828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3631"/>
                </a:solidFill>
                <a:latin typeface="Times New Roman"/>
              </a:rPr>
              <a:t>What are two of the three capitals in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2699640" y="1371600"/>
            <a:ext cx="441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3631"/>
                </a:solidFill>
                <a:latin typeface="Arial"/>
              </a:rPr>
              <a:t>-Pretor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3631"/>
                </a:solidFill>
                <a:latin typeface="Arial"/>
              </a:rPr>
              <a:t>-Cape t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3631"/>
                </a:solidFill>
                <a:latin typeface="Arial"/>
              </a:rPr>
              <a:t>-Bloemfonte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d36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224080" y="266688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What is the largest animal in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457200" y="301680"/>
            <a:ext cx="812628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2059560" y="1828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6a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1819440" y="107460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691a"/>
                </a:solidFill>
                <a:latin typeface="Arial"/>
              </a:rPr>
              <a:t>The African ele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www.baconbabble.com/wp-content/uploads/2010/05/largest-land-animal-African-Bush-Elephant.jpg"/>
          <p:cNvPicPr/>
          <p:nvPr/>
        </p:nvPicPr>
        <p:blipFill>
          <a:blip r:embed="rId1"/>
          <a:stretch/>
        </p:blipFill>
        <p:spPr>
          <a:xfrm>
            <a:off x="3429000" y="2017800"/>
            <a:ext cx="2376360" cy="29350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4191120" y="6095880"/>
            <a:ext cx="1066680" cy="30492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7749" y="3837"/>
                </a:moveTo>
                <a:lnTo>
                  <a:pt x="40325" y="6448"/>
                </a:lnTo>
                <a:lnTo>
                  <a:pt x="40325" y="4707"/>
                </a:lnTo>
                <a:lnTo>
                  <a:pt x="42101" y="4707"/>
                </a:lnTo>
                <a:lnTo>
                  <a:pt x="42101" y="8224"/>
                </a:lnTo>
                <a:lnTo>
                  <a:pt x="44712" y="10800"/>
                </a:lnTo>
                <a:lnTo>
                  <a:pt x="43058" y="10800"/>
                </a:lnTo>
                <a:lnTo>
                  <a:pt x="43058" y="17989"/>
                </a:lnTo>
                <a:lnTo>
                  <a:pt x="32440" y="17989"/>
                </a:lnTo>
                <a:lnTo>
                  <a:pt x="32440" y="10800"/>
                </a:lnTo>
                <a:lnTo>
                  <a:pt x="30786" y="10800"/>
                </a:lnTo>
                <a:close/>
              </a:path>
              <a:path fill="darkenLess" w="75498" h="21600">
                <a:moveTo>
                  <a:pt x="40325" y="6448"/>
                </a:moveTo>
                <a:lnTo>
                  <a:pt x="40325" y="4707"/>
                </a:lnTo>
                <a:lnTo>
                  <a:pt x="42101" y="4707"/>
                </a:lnTo>
                <a:lnTo>
                  <a:pt x="42101" y="8224"/>
                </a:lnTo>
                <a:close/>
              </a:path>
              <a:path fill="darkenLess" w="75498" h="21600">
                <a:moveTo>
                  <a:pt x="36826" y="14299"/>
                </a:moveTo>
                <a:lnTo>
                  <a:pt x="38672" y="14299"/>
                </a:lnTo>
                <a:lnTo>
                  <a:pt x="38672" y="17989"/>
                </a:lnTo>
                <a:lnTo>
                  <a:pt x="43058" y="17989"/>
                </a:lnTo>
                <a:lnTo>
                  <a:pt x="43058" y="10800"/>
                </a:lnTo>
                <a:lnTo>
                  <a:pt x="32440" y="10800"/>
                </a:lnTo>
                <a:lnTo>
                  <a:pt x="32440" y="17989"/>
                </a:lnTo>
                <a:lnTo>
                  <a:pt x="36826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11120" y="2362320"/>
            <a:ext cx="84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What are the largest exports in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905120" y="2362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691a"/>
                </a:solidFill>
                <a:latin typeface="Arial"/>
              </a:rPr>
              <a:t>Gold &amp; diamo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3429000" y="5791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609480" y="301680"/>
            <a:ext cx="8126640" cy="1450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1523880" y="2133720"/>
            <a:ext cx="67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Who is the president of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a. Max Sis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b. Kgalema Mot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c. Jacob 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d. Sandile Nogo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2514600" y="8431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691a"/>
                </a:solidFill>
                <a:latin typeface="Arial"/>
              </a:rPr>
              <a:t>C. Jacob Z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http://upload.wikimedia.org/wikipedia/commons/thumb/4/4f/JacobZuma.jpg/225px-JacobZu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6600" y="2174760"/>
            <a:ext cx="2143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161360" y="1844640"/>
            <a:ext cx="66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How many countries are in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a. 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b. 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c. 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d. 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06a06"/>
                </a:solidFill>
                <a:latin typeface="Times New Roman"/>
              </a:rPr>
              <a:t>h. 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404640" y="380880"/>
            <a:ext cx="812808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895480" y="20574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6691a"/>
                </a:solidFill>
                <a:latin typeface="Arial"/>
              </a:rPr>
              <a:t>C. 5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rId1" action="ppaction://hlinksldjump"/>
          </p:cNvPr>
          <p:cNvSpPr/>
          <p:nvPr/>
        </p:nvSpPr>
        <p:spPr>
          <a:xfrm>
            <a:off x="4038480" y="55627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666880" y="2438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Where in Africa is South Africa loc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533520" y="115920"/>
            <a:ext cx="812628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507960" y="228600"/>
            <a:ext cx="8126280" cy="17524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2286000" y="2828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691a"/>
                </a:solidFill>
                <a:latin typeface="Times New Roman"/>
              </a:rPr>
              <a:t>What country is in the middle of 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http://upload.wikimedia.org/wikipedia/commons/thumb/1/1e/Map_of_South_Africa_with_English_labels.svg/220px-Map_of_South_Africa_with_English_labels.svg.png"/>
          <p:cNvPicPr/>
          <p:nvPr/>
        </p:nvPicPr>
        <p:blipFill>
          <a:blip r:embed="rId1"/>
          <a:stretch/>
        </p:blipFill>
        <p:spPr>
          <a:xfrm>
            <a:off x="4114800" y="3124080"/>
            <a:ext cx="2660760" cy="2322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"/>
          <p:cNvSpPr/>
          <p:nvPr/>
        </p:nvSpPr>
        <p:spPr>
          <a:xfrm>
            <a:off x="1494000" y="1371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6691a"/>
                </a:solidFill>
                <a:latin typeface="Bell MT"/>
              </a:rPr>
              <a:t>Lesoth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838080" y="5791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669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2314440" y="3048120"/>
            <a:ext cx="461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In South Africa what grade does high school beg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547560" y="351000"/>
            <a:ext cx="812664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2590920" y="2438280"/>
            <a:ext cx="41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he 8</a:t>
            </a:r>
            <a:r>
              <a:rPr b="0" lang="en-US" sz="4800" spc="-1" strike="noStrike" baseline="30000">
                <a:solidFill>
                  <a:srgbClr val="92d050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 gra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452680" y="2057400"/>
            <a:ext cx="45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True or false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South African farms, produce 85% of all meat consu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12664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2682720" y="207324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2d050"/>
                </a:solidFill>
                <a:latin typeface="Castellar"/>
              </a:rPr>
              <a:t>Tr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311560" y="2362320"/>
            <a:ext cx="41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Agricultural exports have constituted 30% of South Africa’s total exports for the past five 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8126280" cy="14508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590920" y="1428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2819520" y="21337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Castellar"/>
              </a:rPr>
              <a:t>False. Its 8%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2290680" y="2943360"/>
            <a:ext cx="504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-Half the populatio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kids in Africa aren't be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imes New Roman"/>
              </a:rPr>
              <a:t>educ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507960" y="301680"/>
            <a:ext cx="812628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3661560" y="2921040"/>
            <a:ext cx="182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Castellar"/>
                <a:ea typeface="Arial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1" descr=""/>
          <p:cNvPicPr/>
          <p:nvPr/>
        </p:nvPicPr>
        <p:blipFill>
          <a:blip r:embed="rId1"/>
          <a:stretch/>
        </p:blipFill>
        <p:spPr>
          <a:xfrm>
            <a:off x="23760" y="317520"/>
            <a:ext cx="9291600" cy="120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urple_md_bl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96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4"/>
          <a:stretch/>
        </p:blipFill>
        <p:spPr>
          <a:xfrm>
            <a:off x="3276720" y="2376360"/>
            <a:ext cx="2590560" cy="260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507960" y="304920"/>
            <a:ext cx="8126280" cy="14572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1676520" y="213372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About 24,000 children die of starvation every…(day/ 2 days/ week) in Af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2773440" y="1744560"/>
            <a:ext cx="36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Arial"/>
              </a:rPr>
              <a:t>Every day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441360" y="457200"/>
            <a:ext cx="8126280" cy="14572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2133720" y="25909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What do they call soccer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2895480" y="22860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507960" y="457200"/>
            <a:ext cx="8126280" cy="1457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1981080" y="2133720"/>
            <a:ext cx="49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When making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with clay in Africa, 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would they usually get the c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2438280" y="24955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They would get it from the ground by themselv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209680" y="17524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Name 2 of the 3 most popular sports in Af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441360" y="295200"/>
            <a:ext cx="812628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2133720" y="1981080"/>
            <a:ext cx="259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Bell MT"/>
              </a:rPr>
              <a:t>Soccer, rugby, &amp; cri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http://images.free-extras.com/pics/s/soccer_ball-993.png"/>
          <p:cNvPicPr/>
          <p:nvPr/>
        </p:nvPicPr>
        <p:blipFill>
          <a:blip r:embed="rId1"/>
          <a:stretch/>
        </p:blipFill>
        <p:spPr>
          <a:xfrm>
            <a:off x="6248520" y="10573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1600200" y="150804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Were the oldest art objects in the world discovered in a South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441360" y="295200"/>
            <a:ext cx="812628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2362320" y="23623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Yes, they were found in an African cave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905120" y="234792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Name four of the  six colors on the South African fla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Rectangle 1" descr=""/>
          <p:cNvPicPr/>
          <p:nvPr/>
        </p:nvPicPr>
        <p:blipFill>
          <a:blip r:embed="rId1"/>
          <a:stretch/>
        </p:blipFill>
        <p:spPr>
          <a:xfrm>
            <a:off x="542880" y="133200"/>
            <a:ext cx="8131320" cy="109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2229480" y="1752480"/>
            <a:ext cx="60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Times New Roman"/>
              </a:rPr>
              <a:t>-Soccer was invented in Af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415800" y="152280"/>
            <a:ext cx="812664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/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895480" y="22860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Castellar"/>
              </a:rPr>
              <a:t>Fal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1" descr=""/>
          <p:cNvPicPr/>
          <p:nvPr/>
        </p:nvPicPr>
        <p:blipFill>
          <a:blip r:embed="rId1"/>
          <a:stretch/>
        </p:blipFill>
        <p:spPr>
          <a:xfrm>
            <a:off x="1822320" y="-237960"/>
            <a:ext cx="5651640" cy="592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2111400" cy="128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purple_md_blk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96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1" descr=""/>
          <p:cNvPicPr/>
          <p:nvPr/>
        </p:nvPicPr>
        <p:blipFill>
          <a:blip r:embed="rId1"/>
          <a:stretch/>
        </p:blipFill>
        <p:spPr>
          <a:xfrm>
            <a:off x="695160" y="-96840"/>
            <a:ext cx="8131320" cy="1103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What two oceans do South Africa touch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ctangle 1" descr=""/>
          <p:cNvPicPr/>
          <p:nvPr/>
        </p:nvPicPr>
        <p:blipFill>
          <a:blip r:embed="rId1"/>
          <a:stretch/>
        </p:blipFill>
        <p:spPr>
          <a:xfrm>
            <a:off x="1262160" y="2444760"/>
            <a:ext cx="6406920" cy="11523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>
            <a:hlinkClick r:id="rId2" action="ppaction://hlinksldjump"/>
          </p:cNvPr>
          <p:cNvSpPr/>
          <p:nvPr/>
        </p:nvSpPr>
        <p:spPr>
          <a:xfrm>
            <a:off x="685800" y="57214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457200" y="301680"/>
            <a:ext cx="8126280" cy="145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7615440" cy="95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905120" y="2506680"/>
            <a:ext cx="467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3631"/>
                </a:solidFill>
                <a:latin typeface="Arial"/>
              </a:rPr>
              <a:t>Johannesbur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fd36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JSEAQUIS</cp:lastModifiedBy>
  <dcterms:modified xsi:type="dcterms:W3CDTF">2010-11-03T12:45:11Z</dcterms:modified>
  <cp:revision>46</cp:revision>
  <dc:subject/>
  <dc:title>Slide 1</dc:title>
</cp:coreProperties>
</file>